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4F0D-E574-439E-A7FC-25269FC69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8694-79E8-46D4-BBFF-49A1D79B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42EF-F92B-4C2D-955D-1170E181F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93E0-91FB-43C3-9C0E-988341F00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F1BE-5A8A-4801-95E1-30F4F8EE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F63D-ED31-48F8-A29F-E94ABD7F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5E28-BEA3-4B3D-9311-156033C5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734A-14EF-49E2-9FAC-FDDFF351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87A7-A579-4672-A0A3-BFD6E481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C133-4C5C-4316-9422-39B9B4E9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1097-B419-4DA5-B029-FA286683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E38F-C2B2-465B-82DD-9C8E38D8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3CEC-2205-448F-97EF-D55DAD43C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ve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art Sa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5867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0512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8148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43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9608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0920" y="2438280"/>
            <a:ext cx="2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80880" y="24051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41560" y="24382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2438280"/>
            <a:ext cx="6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240516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2438280"/>
            <a:ext cx="49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12240" y="243828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5880" y="2438280"/>
            <a:ext cx="5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94440" y="2438280"/>
            <a:ext cx="33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48720" y="2438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06668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9568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1008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80880" y="24051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19320" y="24051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79640" y="2438280"/>
            <a:ext cx="4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48320" y="2438280"/>
            <a:ext cx="4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40120" y="2438280"/>
            <a:ext cx="2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243828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315200" y="2438280"/>
            <a:ext cx="72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212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388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04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3848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7692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150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9152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0592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243828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243828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243828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36840" y="24382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2405160"/>
            <a:ext cx="5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243828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75480" y="24382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67280" y="24051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04280" y="2438280"/>
            <a:ext cx="41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81880" y="2438280"/>
            <a:ext cx="6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352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718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6272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008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3888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47720" y="24051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243828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0" y="243828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24382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243828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2438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38680" y="243828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243828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243828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144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2438280"/>
            <a:ext cx="5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67040" y="240516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19520" y="2438280"/>
            <a:ext cx="3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29000" y="2438280"/>
            <a:ext cx="49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27560" y="2438280"/>
            <a:ext cx="33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89680" y="2438280"/>
            <a:ext cx="41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600200" y="32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38280" y="32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32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32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32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91320" y="32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2633760"/>
            <a:ext cx="6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26668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52680" y="2666880"/>
            <a:ext cx="5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2666880"/>
            <a:ext cx="49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666880"/>
            <a:ext cx="72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26668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12:24:25Z</dcterms:created>
  <dc:creator>Rutherford County Schools</dc:creator>
  <dc:description/>
  <dc:language>en-US</dc:language>
  <cp:lastModifiedBy>Rutherford County Schools</cp:lastModifiedBy>
  <dcterms:modified xsi:type="dcterms:W3CDTF">2007-04-21T15:51:04Z</dcterms:modified>
  <cp:revision>2</cp:revision>
  <dc:subject/>
  <dc:title>Rivet Heart Saver</dc:title>
</cp:coreProperties>
</file>